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8E0F-92B5-4281-8888-A69B9033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514-D3C4-4C07-88B4-F17C22C6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32B-E881-4512-9153-3EFBED32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0E4-093E-4D1E-8314-ED18EC6B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31BD-737C-4CF0-B7B6-892481ED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87E0-0179-4611-960F-24C1983B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85A2-B3DD-45DC-9D9D-32D85A4D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A6C6-7038-4D96-A5EB-7DC01683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DF0C-8810-4F88-B2BD-7741DF50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39FD-FA4C-49F0-BE5C-764525DB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4466-5916-4CA4-BF81-DE33F007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B5C9-3D4A-44E0-A2D6-BB10CA31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2605-1DB0-4330-9F0C-C22DCEFC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FD8C-AE28-4500-9FF6-A6C1E718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8CE0-33D5-493C-BD34-1E23D85D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3DAE-691C-4747-93F9-168C8448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F9C8-2520-47B1-AB8E-13B49650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44174-F159-4381-AC72-EA26D9CD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F782B-064B-4AE8-A5F2-F1C4CCD7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BDD76-9FD2-48D4-AF6F-EB820ECD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707D6-A212-4EAA-9D9F-21906B98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C1C24-581F-484C-B748-F7304EE3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A9B-7A0A-465F-96ED-9C8AA7EF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55348-FA62-4163-9F69-9587C0A0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057A1-8E19-436F-B7F9-B1397F60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E030F-337B-4983-9145-48F629A6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79FB9-569B-4EAC-8790-997E758D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4ABC1-37A8-426D-B7C2-CDA751F2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59B07-B82D-4031-B060-2828A611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5BA5C-89FE-404A-A5BF-56C7BFF2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6EC0E-06B7-4A2F-8801-BDC6DA82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B7305-DD7E-4561-9E53-B174EF43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12FDB-98BA-43B5-B9A6-9F6D7052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890-E262-49A2-9624-3B42ED0C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EBED1-FDE9-42FB-AAC2-59B44099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371AB-52E3-4CF2-9C94-2EA74F37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86098-21FC-48A2-8C0B-E629A020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7EC26-17B0-4777-A6EB-43865B01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0873A-0276-4E8E-A7EE-279339FD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FA68-3692-47B2-BB1E-41367EAD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19D10-0303-4656-BEBF-17455E52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D6901-4312-4095-B83E-E4C1D332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6338B-39D9-423B-886D-2EA01774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4F5-052F-4A65-8675-3DA5B218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99C-B744-4044-B9FD-77FFC144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6D0-4010-43ED-B23B-0E5B8119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957-8621-4268-BD50-90062D28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7134-C384-4A01-B3D1-AA2A1910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CEF3-E6B7-4695-AAFD-58A87EFCABC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7C96-26C5-4264-84D5-F89668CC8049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C466-6EFF-4CCA-A78F-23C652682C6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566A-0E38-4E35-BCB5-0E35DB78E9A4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MINERAL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Learning Target = Matter &amp; Minerals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ilicat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Silicon &amp; oxygen = most abundant elements in Earth’s crust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Si and O combine &amp; form the silicon-oxygen tetrahedron (SiO</a:t>
            </a:r>
            <a:r>
              <a:rPr b="0" lang="en-US" sz="3200" spc="-1" strike="noStrike" baseline="-25000">
                <a:solidFill>
                  <a:srgbClr val="3e3d2d"/>
                </a:solidFill>
                <a:latin typeface="Century Gothic"/>
              </a:rPr>
              <a:t>4</a:t>
            </a: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Usually contain other elements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Si-O tetrahedra join in different ways &amp; bonds are strong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3" name="Picture 16" descr=""/>
          <p:cNvPicPr/>
          <p:nvPr/>
        </p:nvPicPr>
        <p:blipFill>
          <a:blip r:embed="rId1"/>
          <a:stretch/>
        </p:blipFill>
        <p:spPr>
          <a:xfrm>
            <a:off x="6553080" y="4724280"/>
            <a:ext cx="243864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17"/>
          <p:cNvGrpSpPr/>
          <p:nvPr/>
        </p:nvGrpSpPr>
        <p:grpSpPr>
          <a:xfrm>
            <a:off x="1066680" y="838080"/>
            <a:ext cx="7162560" cy="5181480"/>
            <a:chOff x="1066680" y="838080"/>
            <a:chExt cx="7162560" cy="5181480"/>
          </a:xfrm>
        </p:grpSpPr>
        <p:sp>
          <p:nvSpPr>
            <p:cNvPr id="365" name="AutoShape 11"/>
            <p:cNvSpPr/>
            <p:nvPr/>
          </p:nvSpPr>
          <p:spPr>
            <a:xfrm>
              <a:off x="1066680" y="838080"/>
              <a:ext cx="7162560" cy="518148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366" name="Picture 16" descr=""/>
            <p:cNvPicPr/>
            <p:nvPr/>
          </p:nvPicPr>
          <p:blipFill>
            <a:blip r:embed="rId1"/>
            <a:stretch/>
          </p:blipFill>
          <p:spPr>
            <a:xfrm>
              <a:off x="3390840" y="876240"/>
              <a:ext cx="2514600" cy="510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6019920" y="3591000"/>
            <a:ext cx="2581200" cy="2390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http://www.galleries.com/Olivine/olivine.jpg"/>
          <p:cNvPicPr/>
          <p:nvPr/>
        </p:nvPicPr>
        <p:blipFill>
          <a:blip r:embed="rId3"/>
          <a:stretch/>
        </p:blipFill>
        <p:spPr>
          <a:xfrm>
            <a:off x="1131840" y="876240"/>
            <a:ext cx="1347840" cy="1797120"/>
          </a:xfrm>
          <a:prstGeom prst="rect">
            <a:avLst/>
          </a:prstGeom>
          <a:ln w="0">
            <a:noFill/>
          </a:ln>
        </p:spPr>
      </p:pic>
      <p:pic>
        <p:nvPicPr>
          <p:cNvPr id="369" name="Straight Arrow Connector 7" descr=""/>
          <p:cNvPicPr/>
          <p:nvPr/>
        </p:nvPicPr>
        <p:blipFill>
          <a:blip r:embed="rId4"/>
          <a:stretch/>
        </p:blipFill>
        <p:spPr>
          <a:xfrm>
            <a:off x="2114640" y="1030320"/>
            <a:ext cx="1341360" cy="341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http://upload.wikimedia.org/wikipedia/commons/8/81/Augite-112545.jpg"/>
          <p:cNvPicPr/>
          <p:nvPr/>
        </p:nvPicPr>
        <p:blipFill>
          <a:blip r:embed="rId5"/>
          <a:stretch/>
        </p:blipFill>
        <p:spPr>
          <a:xfrm>
            <a:off x="6715080" y="884160"/>
            <a:ext cx="1190520" cy="1270080"/>
          </a:xfrm>
          <a:prstGeom prst="rect">
            <a:avLst/>
          </a:prstGeom>
          <a:ln w="0">
            <a:noFill/>
          </a:ln>
        </p:spPr>
      </p:pic>
      <p:pic>
        <p:nvPicPr>
          <p:cNvPr id="371" name="Straight Arrow Connector 11" descr=""/>
          <p:cNvPicPr/>
          <p:nvPr/>
        </p:nvPicPr>
        <p:blipFill>
          <a:blip r:embed="rId6"/>
          <a:stretch/>
        </p:blipFill>
        <p:spPr>
          <a:xfrm>
            <a:off x="5834160" y="1152360"/>
            <a:ext cx="1195200" cy="627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7" descr=""/>
          <p:cNvPicPr/>
          <p:nvPr/>
        </p:nvPicPr>
        <p:blipFill>
          <a:blip r:embed="rId7"/>
          <a:srcRect l="51713" t="58002" r="0" b="0"/>
          <a:stretch/>
        </p:blipFill>
        <p:spPr>
          <a:xfrm>
            <a:off x="912960" y="2933640"/>
            <a:ext cx="2014560" cy="1254240"/>
          </a:xfrm>
          <a:prstGeom prst="rect">
            <a:avLst/>
          </a:prstGeom>
          <a:ln w="0">
            <a:noFill/>
          </a:ln>
        </p:spPr>
      </p:pic>
      <p:pic>
        <p:nvPicPr>
          <p:cNvPr id="373" name="Straight Arrow Connector 14" descr=""/>
          <p:cNvPicPr/>
          <p:nvPr/>
        </p:nvPicPr>
        <p:blipFill>
          <a:blip r:embed="rId8"/>
          <a:stretch/>
        </p:blipFill>
        <p:spPr>
          <a:xfrm>
            <a:off x="2114640" y="2541600"/>
            <a:ext cx="1347840" cy="933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http://www.rocksforkids.com/images/mica%20MuscoviteMica02.jpg"/>
          <p:cNvPicPr/>
          <p:nvPr/>
        </p:nvPicPr>
        <p:blipFill>
          <a:blip r:embed="rId9"/>
          <a:stretch/>
        </p:blipFill>
        <p:spPr>
          <a:xfrm>
            <a:off x="954000" y="4419720"/>
            <a:ext cx="1981440" cy="1679400"/>
          </a:xfrm>
          <a:prstGeom prst="rect">
            <a:avLst/>
          </a:prstGeom>
          <a:ln w="0">
            <a:noFill/>
          </a:ln>
        </p:spPr>
      </p:pic>
      <p:pic>
        <p:nvPicPr>
          <p:cNvPr id="375" name="Straight Arrow Connector 18" descr=""/>
          <p:cNvPicPr/>
          <p:nvPr/>
        </p:nvPicPr>
        <p:blipFill>
          <a:blip r:embed="rId10"/>
          <a:stretch/>
        </p:blipFill>
        <p:spPr>
          <a:xfrm>
            <a:off x="2498760" y="3840120"/>
            <a:ext cx="969840" cy="1146240"/>
          </a:xfrm>
          <a:prstGeom prst="rect">
            <a:avLst/>
          </a:prstGeom>
          <a:ln w="0">
            <a:noFill/>
          </a:ln>
        </p:spPr>
      </p:pic>
      <p:pic>
        <p:nvPicPr>
          <p:cNvPr id="376" name="Straight Arrow Connector 20" descr=""/>
          <p:cNvPicPr/>
          <p:nvPr/>
        </p:nvPicPr>
        <p:blipFill>
          <a:blip r:embed="rId11"/>
          <a:stretch/>
        </p:blipFill>
        <p:spPr>
          <a:xfrm>
            <a:off x="5840280" y="4906800"/>
            <a:ext cx="1341720" cy="397080"/>
          </a:xfrm>
          <a:prstGeom prst="rect">
            <a:avLst/>
          </a:prstGeom>
          <a:ln w="0">
            <a:noFill/>
          </a:ln>
        </p:spPr>
      </p:pic>
      <p:sp>
        <p:nvSpPr>
          <p:cNvPr id="377" name="TextBox 21"/>
          <p:cNvSpPr/>
          <p:nvPr/>
        </p:nvSpPr>
        <p:spPr>
          <a:xfrm>
            <a:off x="1131840" y="506520"/>
            <a:ext cx="18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livin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TextBox 26"/>
          <p:cNvSpPr/>
          <p:nvPr/>
        </p:nvSpPr>
        <p:spPr>
          <a:xfrm>
            <a:off x="6703920" y="2163600"/>
            <a:ext cx="18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ugit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TextBox 27"/>
          <p:cNvSpPr/>
          <p:nvPr/>
        </p:nvSpPr>
        <p:spPr>
          <a:xfrm>
            <a:off x="581040" y="2801880"/>
            <a:ext cx="18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ornblend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TextBox 28"/>
          <p:cNvSpPr/>
          <p:nvPr/>
        </p:nvSpPr>
        <p:spPr>
          <a:xfrm>
            <a:off x="954000" y="6110280"/>
            <a:ext cx="18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ic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TextBox 29"/>
          <p:cNvSpPr/>
          <p:nvPr/>
        </p:nvSpPr>
        <p:spPr>
          <a:xfrm>
            <a:off x="6162840" y="595008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Quartz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ilicat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rystallization from magma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ooling occurs at or near Earth’s surface (temp and pressure low)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Also form at great depths (T &amp; P ↑)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Silicate formation dependent on: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Place of formation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Chemical composition of magma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arbonat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3200" spc="-1" strike="noStrike" baseline="30000">
                <a:solidFill>
                  <a:srgbClr val="3e3d2d"/>
                </a:solidFill>
                <a:latin typeface="Century Gothic"/>
              </a:rPr>
              <a:t>nd</a:t>
            </a: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 most common group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ontain C, O &amp; another metallic element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alcite (CaCO</a:t>
            </a:r>
            <a:r>
              <a:rPr b="0" lang="en-US" sz="3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) is most common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Ex: Dolomite, limestone (rock), marble (rock)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6" name="Picture 2" descr="http://www.windows2universe.org/earth/geology/images/calcite_med.jpg"/>
          <p:cNvPicPr/>
          <p:nvPr/>
        </p:nvPicPr>
        <p:blipFill>
          <a:blip r:embed="rId1"/>
          <a:stretch/>
        </p:blipFill>
        <p:spPr>
          <a:xfrm>
            <a:off x="5105520" y="4419720"/>
            <a:ext cx="26668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Oxid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ontain O + 1 or more elements (usually metals)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Form by: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agma cooling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Changes in T and P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Exposed to water or moisture in air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Ex: Rutile (TiO</a:t>
            </a:r>
            <a:r>
              <a:rPr b="0" lang="en-US" sz="28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), Corndum (Al</a:t>
            </a:r>
            <a:r>
              <a:rPr b="0" lang="en-US" sz="28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O</a:t>
            </a:r>
            <a:r>
              <a:rPr b="0" lang="en-US" sz="28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), Hematite (Fe</a:t>
            </a:r>
            <a:r>
              <a:rPr b="0" lang="en-US" sz="28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O</a:t>
            </a:r>
            <a:r>
              <a:rPr b="0" lang="en-US" sz="28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9" name="Picture 2" descr="http://www.excaliburmineral.com/cdintro/rutile.jpg"/>
          <p:cNvPicPr/>
          <p:nvPr/>
        </p:nvPicPr>
        <p:blipFill>
          <a:blip r:embed="rId1"/>
          <a:srcRect l="11234" t="7352" r="6595" b="5551"/>
          <a:stretch/>
        </p:blipFill>
        <p:spPr>
          <a:xfrm>
            <a:off x="5943600" y="2133720"/>
            <a:ext cx="21351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ulfates &amp; Sulfid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042560" y="1523520"/>
            <a:ext cx="444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ontain Sulfur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Form when mineral-rich waters evaporate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Form from thermal solutions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Ex: Gypsum, Galena, Pyrite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5556240" y="1676520"/>
            <a:ext cx="2927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Halid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ontain a halogen ion plus 1 or more elements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Ex: Halite (NaCl) &amp; Fluorite (CaF</a:t>
            </a:r>
            <a:r>
              <a:rPr b="0" lang="en-US" sz="32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7" name="Picture 6" descr="http://upload.wikimedia.org/wikipedia/commons/7/7c/Selpologne.jpg"/>
          <p:cNvPicPr/>
          <p:nvPr/>
        </p:nvPicPr>
        <p:blipFill>
          <a:blip r:embed="rId1"/>
          <a:srcRect l="12880" t="15637" r="9485" b="10989"/>
          <a:stretch/>
        </p:blipFill>
        <p:spPr>
          <a:xfrm>
            <a:off x="990720" y="3352680"/>
            <a:ext cx="3359160" cy="3040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http://www.mineralminers.com/images/fluorite/mins/flum101.jpg"/>
          <p:cNvPicPr/>
          <p:nvPr/>
        </p:nvPicPr>
        <p:blipFill>
          <a:blip r:embed="rId2"/>
          <a:stretch/>
        </p:blipFill>
        <p:spPr>
          <a:xfrm>
            <a:off x="4724280" y="33526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Native Element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042920" y="1523520"/>
            <a:ext cx="55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ontains one element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Ex: Gold (Au), Silver (Ag), Copper (Cu), Sulfur (S), Carbon (C)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Native forms of carbon are graphite &amp; diamond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Some form from hydrothermal solutions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3" name="Picture 2" descr="http://hungeree.com/wp-content/uploads/2012/11/07-06-diamond.jpg"/>
          <p:cNvPicPr/>
          <p:nvPr/>
        </p:nvPicPr>
        <p:blipFill>
          <a:blip r:embed="rId1"/>
          <a:srcRect l="18700" t="7282" r="18024" b="3467"/>
          <a:stretch/>
        </p:blipFill>
        <p:spPr>
          <a:xfrm>
            <a:off x="6543720" y="2438280"/>
            <a:ext cx="21337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Color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Streak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Luster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Crystal form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Hardnes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Cleavage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Fracture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Density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Distinctive properti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olor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Can be unique to some minerals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Not useful in identificatio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mall amounts of different elements can give the same mineral different colors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Ex: Sapphires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2392200" y="4343400"/>
            <a:ext cx="4545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02468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ineral Characteristic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90360" y="15235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Definition = naturally occurring, inorganic solid with an orderly crystalline structure and a definite chemical composition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To be considered a mineral, must have the following characteristics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turally occurr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olid substanc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rderly crystalline structur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efinite chemical composi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enerally considered inorganic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Streak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lor of a mineral in its powdered form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ub mineral across a streak plat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ineral color may vary but streak does no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ifference between minerals with metallic &amp; nonmetallic luster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2590920" y="4191120"/>
            <a:ext cx="339084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Luster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ow light is reflected from the surface of a minera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etallic luster – appearance of meta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onmetallic luster – use different adjectiv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Glassy or vitreou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earl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ilk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Earth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Brillian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4341960" y="3581280"/>
            <a:ext cx="480060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042920" y="1523880"/>
            <a:ext cx="74152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Crystal form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Visible expression of a mineral’s internal arrangement of atom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When a mineral forms slowly with plenty of space, develop into a crystal with well-formed side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ost of the time, minerals compete for space so minerals do not show their crystal form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7" name="Picture 17" descr=""/>
          <p:cNvPicPr/>
          <p:nvPr/>
        </p:nvPicPr>
        <p:blipFill>
          <a:blip r:embed="rId1"/>
          <a:stretch/>
        </p:blipFill>
        <p:spPr>
          <a:xfrm>
            <a:off x="1295280" y="4086360"/>
            <a:ext cx="64771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Hardness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easure of the resistance of a mineral to being scratched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etermined by rubbing one mineral against another of known hardnes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ohs scale consists of 10 minerals arranged from 10 (hardest) to 1 (softest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6" descr=""/>
          <p:cNvPicPr/>
          <p:nvPr/>
        </p:nvPicPr>
        <p:blipFill>
          <a:blip r:embed="rId1"/>
          <a:stretch/>
        </p:blipFill>
        <p:spPr>
          <a:xfrm>
            <a:off x="2438280" y="0"/>
            <a:ext cx="40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leavage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endency of a mineral to break along flat, even surfac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7" name="Picture 15" descr=""/>
          <p:cNvPicPr/>
          <p:nvPr/>
        </p:nvPicPr>
        <p:blipFill>
          <a:blip r:embed="rId1"/>
          <a:stretch/>
        </p:blipFill>
        <p:spPr>
          <a:xfrm>
            <a:off x="1955880" y="2895480"/>
            <a:ext cx="508140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Fracture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neven breakage of a minera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inerals that do not show cleavage when broken are said to fractur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42" name="Picture 17" descr=""/>
          <p:cNvPicPr/>
          <p:nvPr/>
        </p:nvPicPr>
        <p:blipFill>
          <a:blip r:embed="rId1"/>
          <a:stretch/>
        </p:blipFill>
        <p:spPr>
          <a:xfrm>
            <a:off x="2133720" y="3195720"/>
            <a:ext cx="44956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Density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roperty of all matter that is the ratio of an object’s mass to its volum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nit = grams per cubic centimeter (g/cm</a:t>
            </a:r>
            <a:r>
              <a:rPr b="0" lang="en-US" sz="2200" spc="-1" strike="noStrike" baseline="30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any common minerals have densities between 2 &amp; 5 g/cm</a:t>
            </a:r>
            <a:r>
              <a:rPr b="0" lang="en-US" sz="2200" spc="-1" strike="noStrike" baseline="30000">
                <a:solidFill>
                  <a:srgbClr val="3e3d2d"/>
                </a:solidFill>
                <a:latin typeface="Century Gothic"/>
              </a:rPr>
              <a:t>3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2309760" y="4191120"/>
            <a:ext cx="44578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Distinctive Properties of Minerals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ome minerals can be recognized by other distinctive properti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eel (Talc = soapy, graphite = greasy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asily shaped (Gold, silver, copper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agnetic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ouble refraction (appearance doubles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mell (sulfur minerals = rotten eggs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eacts with hydrochloric acid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rcRect l="5728" t="0" r="0" b="0"/>
          <a:stretch/>
        </p:blipFill>
        <p:spPr>
          <a:xfrm>
            <a:off x="6477120" y="4343400"/>
            <a:ext cx="201132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02468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ineral Characteristic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Naturally occurring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– formed by geologic process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Solid substance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– solids within temp ranges that are normal for Earth’s surfac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Crystalline structure 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–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toms or ions arranged in orderly &amp; repetitive manner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Definite chemical composition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– most minerals are chemical compound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Generally considered inorganic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– minerals generally do not come from a living sourc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How Minerals Form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4 major processes by which minerals form: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Crystallization from Magma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Precipitation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Pressure &amp; Temperature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Hydrothermal Solution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How Minerals Form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e3d2d"/>
                </a:solidFill>
                <a:uFillTx/>
                <a:latin typeface="Century Gothic"/>
              </a:rPr>
              <a:t>Crystallization from Magma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As magma (molten rock) cools, elements combine and crystallize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1st – compounds rich in Fe, Ca, Mg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3000" spc="-1" strike="noStrike" baseline="30000">
                <a:solidFill>
                  <a:srgbClr val="3e3d2d"/>
                </a:solidFill>
                <a:latin typeface="Century Gothic"/>
              </a:rPr>
              <a:t>nd</a:t>
            </a: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 – Na, K, Al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5" name="Picture 17" descr=""/>
          <p:cNvPicPr/>
          <p:nvPr/>
        </p:nvPicPr>
        <p:blipFill>
          <a:blip r:embed="rId1"/>
          <a:stretch/>
        </p:blipFill>
        <p:spPr>
          <a:xfrm>
            <a:off x="4284720" y="3962520"/>
            <a:ext cx="3406680" cy="2438280"/>
          </a:xfrm>
          <a:prstGeom prst="rect">
            <a:avLst/>
          </a:prstGeom>
          <a:ln w="0">
            <a:noFill/>
          </a:ln>
        </p:spPr>
      </p:pic>
      <p:sp>
        <p:nvSpPr>
          <p:cNvPr id="346" name="TextBox 4"/>
          <p:cNvSpPr/>
          <p:nvPr/>
        </p:nvSpPr>
        <p:spPr>
          <a:xfrm>
            <a:off x="1906560" y="448776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Feldspa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1906560" y="57103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Quartz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TextBox 6"/>
          <p:cNvSpPr/>
          <p:nvPr/>
        </p:nvSpPr>
        <p:spPr>
          <a:xfrm>
            <a:off x="7162920" y="3817800"/>
            <a:ext cx="23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uscovit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TextBox 7"/>
          <p:cNvSpPr/>
          <p:nvPr/>
        </p:nvSpPr>
        <p:spPr>
          <a:xfrm>
            <a:off x="6934320" y="5195880"/>
            <a:ext cx="23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orneblend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How Minerals Form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e3d2d"/>
                </a:solidFill>
                <a:uFillTx/>
                <a:latin typeface="Century Gothic"/>
              </a:rPr>
              <a:t>Precipitation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Water contains dissolved substanc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Minerals form due to: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Evaporation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Temperature change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Minerals are left behind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6527880" y="762120"/>
            <a:ext cx="25430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How Minerals Form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e3d2d"/>
                </a:solidFill>
                <a:uFillTx/>
                <a:latin typeface="Century Gothic"/>
              </a:rPr>
              <a:t>Pressure &amp; Temperature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Increase in pressure causes a mineral to recrystallize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Form more compact mineral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Temperature change can cause instability and new minerals form that are stable at new temperature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Ex: Talc &amp; Muscovite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6324480" y="4678200"/>
            <a:ext cx="18288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How Minerals Form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e3d2d"/>
                </a:solidFill>
                <a:uFillTx/>
                <a:latin typeface="Century Gothic"/>
              </a:rPr>
              <a:t>Hydrothermal Solutions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Hot mixture of water &amp; dissolved substanc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Temps = 100°C &amp; 300°C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Chemical reactions form new mineral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Solutions cool &amp; minerals form as well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Ex: Quartz, pyrite, sulfur mineral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ineral Group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Over 3,800 identified minerals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Groups are based on composition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Silicat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Carbonat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Oxid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Sulfates &amp; sulfid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Halid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Native element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8T23:56:44Z</dcterms:created>
  <dc:creator>Builder</dc:creator>
  <dc:description/>
  <dc:language>en-US</dc:language>
  <cp:lastModifiedBy>Builder</cp:lastModifiedBy>
  <dcterms:modified xsi:type="dcterms:W3CDTF">2015-09-13T22:19:05Z</dcterms:modified>
  <cp:revision>17</cp:revision>
  <dc:subject/>
  <dc:title>MINERALS</dc:title>
</cp:coreProperties>
</file>